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9CE-ABA7-4838-94A9-14BEEDD0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7B8-91D4-455C-BC07-E222F57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AF3-7BD3-4A7A-BE39-9F7E7524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6A1-8EDE-4486-9F57-C692EDC6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929A-3D0C-4CDC-84AC-C6BDE4C8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9F65-2C5C-4493-A902-BF71B6EE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7A53-B4CF-4B5C-A823-C84D0EB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ACFB-6E7D-45CB-9D1A-E782C4DF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0D8-DDBD-4164-9B68-87679CF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A10D-91DA-4800-B70C-53FAABD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1358-21A2-4DE7-BF94-5AF2911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CDD-7194-4BD5-9CBC-0EA2A767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29F4-B695-4426-B782-2ECB180B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1C9B-7ADE-470E-BB00-ADD9F588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C79-1E88-47BA-AF79-47894320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0DC8-53DC-41B6-AEEA-9B3C5AF9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DFE5-1A0D-482A-AEE5-116D45D5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1F3-D748-4F71-BE21-F8F4144D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B76-1FE9-43DE-9062-F27AEC46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44D-FD90-4FC6-9B2D-EFCE0867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B60-62C8-44C2-94DB-5B8FFFE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065-9AFA-415C-A660-D8B0249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1BE-FC2B-4402-BD2E-67BE92B0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367-7E37-4FD8-9F63-68EE492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7FE1-5877-434C-82CF-12D55A965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754C-D9C1-418F-8C9C-FB0856BF9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552000">
            <a:off x="4266720" y="2895120"/>
            <a:ext cx="4038840" cy="1752840"/>
          </a:xfrm>
          <a:prstGeom prst="rect">
            <a:avLst/>
          </a:prstGeom>
          <a:noFill/>
          <a:ln w="0">
            <a:noFill/>
          </a:ln>
          <a:effectLst>
            <a:outerShdw dist="12904" dir="1808483" blurRad="0" rotWithShape="0">
              <a:srgbClr val="00000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n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e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i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e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6400"/>
            </a:b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a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d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n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6400" spc="-1" strike="noStrike">
                <a:solidFill>
                  <a:srgbClr val="eeff39"/>
                </a:solidFill>
                <a:latin typeface="Times New Roman"/>
              </a:rPr>
              <a:t>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4960" y="5105160"/>
            <a:ext cx="5105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and Tick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6880" y="1143000"/>
            <a:ext cx="8547120" cy="512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20875800">
            <a:off x="5486400" y="2133360"/>
            <a:ext cx="20574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81480" y="990360"/>
            <a:ext cx="28195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sect </a:t>
            </a:r>
            <a:r>
              <a:rPr b="0" i="1" lang="en-US" sz="4800" spc="-1" strike="noStrike">
                <a:solidFill>
                  <a:srgbClr val="cc3300"/>
                </a:solidFill>
                <a:latin typeface="Times New Roman"/>
              </a:rPr>
              <a:t>Bite</a:t>
            </a:r>
            <a:br>
              <a:rPr sz="48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880" y="27432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h the area of the 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special lotion designed to treat insect b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14800" y="2590920"/>
            <a:ext cx="1600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animClr clrSpc="rgb">
                                      <p:cBhvr>
                                        <p:cTn id="32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set>
                                      <p:cBhvr>
                                        <p:cTn id="33" dur="2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8840" y="304560"/>
            <a:ext cx="33526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sect St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ape against the sting with credit card or finger nail, trying to remove st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something cold to sight of sting to relieve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for allergic side effects such as rash, difficulty breathing, or swelling of the face, neck, and ton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09880" y="4038480"/>
            <a:ext cx="16002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37339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Times New Roman"/>
              </a:rPr>
              <a:t>Tick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Remova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petroleum jelly or oil on the area where the tick is in order to not allow it to br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tweezers close to the head of the tick and pull i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h the area with soap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ick’s head breaks off seek medical atten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240" y="2438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.........By Andrew Milli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...By Andrew Milli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sored..By Andrew Milli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from Mrs. Gar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r. 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23Z</dcterms:created>
  <dc:creator>Kraybill Campus LMS</dc:creator>
  <dc:description/>
  <dc:language>en-US</dc:language>
  <cp:lastModifiedBy>Kraybill Campus LMS</cp:lastModifiedBy>
  <dcterms:modified xsi:type="dcterms:W3CDTF">2011-05-23T12:59:50Z</dcterms:modified>
  <cp:revision>3</cp:revision>
  <dc:subject/>
  <dc:title>Insect Bites and Stings</dc:title>
</cp:coreProperties>
</file>